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249-D738-43F6-BEB9-28C94ED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78B-9F23-40E7-92E1-BBBC606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B63-2692-4600-B5B7-4E5D2476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85F-88EA-4CF4-A3B3-F1FF5408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221-6AE3-4EC6-A9E9-0787719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EE6-C1EB-4A0C-A2ED-0A3687D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27E-3DFD-42F3-9012-0EC6D56C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AEF-FF66-46A4-83AF-E88A4FD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056-D6C2-4C46-8E05-5199D41D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C97-F84A-4498-B7B4-EC18715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E82-904D-4ACD-ADF4-16BF544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368-F18F-47B3-BDE4-BFDB9A57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6E3-6ED9-4851-8235-CF7A0D058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3" descr="C:\Users\dwilliams2\AppData\Local\Microsoft\Windows\Temporary Internet Files\Content.IE5\6WO1AC7T\MP900262349[1].jpg"/>
          <p:cNvPicPr/>
          <p:nvPr/>
        </p:nvPicPr>
        <p:blipFill>
          <a:blip r:embed="rId1"/>
          <a:stretch/>
        </p:blipFill>
        <p:spPr>
          <a:xfrm>
            <a:off x="152280" y="228600"/>
            <a:ext cx="6477120" cy="8763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42480" y="2057400"/>
            <a:ext cx="48769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4" descr="C:\Users\dwilliams2\AppData\Local\Microsoft\Windows\Temporary Internet Files\Content.IE5\ES5BI6NL\MC900438105[1].wmf"/>
          <p:cNvPicPr/>
          <p:nvPr/>
        </p:nvPicPr>
        <p:blipFill>
          <a:blip r:embed="rId2"/>
          <a:stretch/>
        </p:blipFill>
        <p:spPr>
          <a:xfrm>
            <a:off x="4495680" y="457200"/>
            <a:ext cx="1868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09T16:22:32Z</dcterms:modified>
  <cp:revision>6</cp:revision>
  <dc:subject/>
  <dc:title>PowerPoint Presentation</dc:title>
</cp:coreProperties>
</file>